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56D-1D50-498D-8A75-5B5937DD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2F5-D8EB-4EFB-B4D9-ACF3EB76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8CB-C26A-44EC-A031-284A18C5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E00-F685-4042-9CCF-BC09DD13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BE14-F029-4A37-82B8-A0378BBA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BE2D-7014-42B7-B895-705467A2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23B8-7D1D-456B-B068-DB0F0E8F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5352-1121-47EB-851D-787F3747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F6A7-5632-4FC6-B6DB-BD47E84F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A8F9-B2F2-4B28-BCFE-67862E6A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CE9F-6F6A-4071-9BB8-365C823E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BEE-BCB2-4DBD-966D-BA1A2E07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AB61-05D4-407A-953B-2950B4FC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5067-A8EA-417B-8969-231D3D4D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3DBE-E3D5-4731-88FD-0A19A3DA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0064-F95C-4A0A-9DB6-F378A116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0C86-D07E-4659-B96B-F531D863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94B-3FD9-426B-A218-0B1A7305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0A3-8DF2-4924-84DC-CDE1CEEB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1B6-F5D2-42A7-9704-DAFB08E4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C43-6B62-4302-B981-CDFE93AC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48A-E7EB-4153-A7C7-C3CB1A6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FED-1C3B-4B08-BF81-DF674790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B0D-2640-4159-80F8-35E9F478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ECED-9B36-490C-9AC5-D22C88DA8F7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5D3C-494F-47F1-9D75-75E87969775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ubtitle 2"/>
          <p:cNvSpPr/>
          <p:nvPr/>
        </p:nvSpPr>
        <p:spPr>
          <a:xfrm>
            <a:off x="1447920" y="2895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chhs%20banner1"/>
          <p:cNvPicPr/>
          <p:nvPr/>
        </p:nvPicPr>
        <p:blipFill>
          <a:blip r:embed="rId1"/>
          <a:stretch/>
        </p:blipFill>
        <p:spPr>
          <a:xfrm>
            <a:off x="304920" y="990720"/>
            <a:ext cx="8610480" cy="109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685800" y="304920"/>
          <a:ext cx="784872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78487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685800" y="304920"/>
          <a:ext cx="784872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78487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987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 interventions  through new Math and Reading coach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construct and incorporate National Standards into curriculum maps and pacing guid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 weekly advisor block for 2011-2012 school yea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anked in to </a:t>
            </a:r>
            <a:r>
              <a:rPr b="1" lang="en-US" sz="2600" spc="-1" strike="noStrike">
                <a:solidFill>
                  <a:srgbClr val="c00000"/>
                </a:solidFill>
                <a:latin typeface="Book Antiqua"/>
              </a:rPr>
              <a:t>15%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in state in both ACT and KCCT scor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Book Antiqua"/>
              </a:rPr>
              <a:t>Only school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n the area (28 schools) to improve in </a:t>
            </a:r>
            <a:r>
              <a:rPr b="1" lang="en-US" sz="2600" spc="-1" strike="noStrike">
                <a:solidFill>
                  <a:srgbClr val="c00000"/>
                </a:solidFill>
                <a:latin typeface="Book Antiqua"/>
              </a:rPr>
              <a:t>every area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n the KCC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Book Antiqua"/>
              </a:rPr>
              <a:t>933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ollege credit hours earned through dual credit offerings by our students in 2009-2010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Book Antiqua"/>
              </a:rPr>
              <a:t>Final Four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n boy’s socce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Book Antiqua"/>
              </a:rPr>
              <a:t>Final 8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in girl’s socce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chool record for wins in footbal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egion championships in girl’s golf and volleyball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1127160"/>
            <a:ext cx="8242560" cy="969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22860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have good teachers, and students that are engaged in the classro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le we are teaching it isn’t always what we need to be teach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must focus on the 4 ques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do students need to know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do we know we they have learned i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do we do when they haven’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do we do when they have?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414360" y="1438200"/>
            <a:ext cx="8242200" cy="1055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520" y="25909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uilding a Culture of Learning for All through PLC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assrooms with rigorous instruction where students understand expectations through posted learning objectives tied to standards with real-world connec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 a balanced assessment system that drives instru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ower those who have mastered the content  to make decisions that best benefit students and learn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ry content area divided into P.L.C.s (I.E. Algebra 1, Political Science, Chemistr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ekly P.L.C.’s plan, look at data, develop learning targets and common assessments. (common plan in 2010-2011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rgeted interventions in Reading and Ma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E:\documentation\MVC-010S.JPG"/>
          <p:cNvPicPr/>
          <p:nvPr/>
        </p:nvPicPr>
        <p:blipFill>
          <a:blip r:embed="rId2"/>
          <a:stretch/>
        </p:blipFill>
        <p:spPr>
          <a:xfrm>
            <a:off x="1554120" y="1600200"/>
            <a:ext cx="2637000" cy="2133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:\documentation\MVC-014S.JPG"/>
          <p:cNvPicPr/>
          <p:nvPr/>
        </p:nvPicPr>
        <p:blipFill>
          <a:blip r:embed="rId3"/>
          <a:stretch/>
        </p:blipFill>
        <p:spPr>
          <a:xfrm>
            <a:off x="4952880" y="160020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VC-006S.JPG"/>
          <p:cNvPicPr/>
          <p:nvPr/>
        </p:nvPicPr>
        <p:blipFill>
          <a:blip r:embed="rId4"/>
          <a:srcRect l="0" t="28205" r="0" b="0"/>
          <a:stretch/>
        </p:blipFill>
        <p:spPr>
          <a:xfrm>
            <a:off x="1523880" y="4114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E:\Learning targets and a team meetings\photos for documentation and other stuff\DSC01385.JPG"/>
          <p:cNvPicPr/>
          <p:nvPr/>
        </p:nvPicPr>
        <p:blipFill>
          <a:blip r:embed="rId5"/>
          <a:stretch/>
        </p:blipFill>
        <p:spPr>
          <a:xfrm>
            <a:off x="5029200" y="4114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4" descr=""/>
          <p:cNvPicPr/>
          <p:nvPr/>
        </p:nvPicPr>
        <p:blipFill>
          <a:blip r:embed="rId1"/>
          <a:stretch/>
        </p:blipFill>
        <p:spPr>
          <a:xfrm>
            <a:off x="231840" y="1000080"/>
            <a:ext cx="8759880" cy="5656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76212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ong Rang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9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2"/>
          <p:cNvGraphicFramePr/>
          <p:nvPr/>
        </p:nvGraphicFramePr>
        <p:xfrm>
          <a:off x="609480" y="1295280"/>
          <a:ext cx="8001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8001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Picture1.png"/>
          <p:cNvPicPr/>
          <p:nvPr/>
        </p:nvPicPr>
        <p:blipFill>
          <a:blip r:embed="rId2"/>
          <a:stretch/>
        </p:blipFill>
        <p:spPr>
          <a:xfrm>
            <a:off x="990720" y="1523880"/>
            <a:ext cx="73911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371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npacking  Standards = writing SMART student friendly learning targets based on the Program of Studi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3:41:51Z</dcterms:created>
  <dc:creator>tisaacs</dc:creator>
  <dc:description/>
  <dc:language>en-US</dc:language>
  <cp:lastModifiedBy>tisaacs</cp:lastModifiedBy>
  <dcterms:modified xsi:type="dcterms:W3CDTF">2011-02-16T12:50:43Z</dcterms:modified>
  <cp:revision>17</cp:revision>
  <dc:subject/>
  <dc:title>Slide 1</dc:title>
</cp:coreProperties>
</file>